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5.jpeg" ContentType="image/jpeg"/>
  <Override PartName="/ppt/media/image50.png" ContentType="image/png"/>
  <Override PartName="/ppt/media/image34.jpeg" ContentType="image/jpeg"/>
  <Override PartName="/ppt/media/image30.jpeg" ContentType="image/jpeg"/>
  <Override PartName="/ppt/media/image43.png" ContentType="image/png"/>
  <Override PartName="/ppt/media/image7.jpeg" ContentType="image/jpeg"/>
  <Override PartName="/ppt/media/image38.jpeg" ContentType="image/jpeg"/>
  <Override PartName="/ppt/media/image4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E8D4-2E07-4FB2-8B2A-F8A6CCA80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5AE7-C1C1-4F6D-9076-FCCC71EBF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75B-AFF3-48AB-B2BB-62B6544F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B3A-D34B-41E1-A05F-29089DB0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C3C-D903-4C24-B5BA-4BD742B5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2E6-1F6F-499F-8069-3739F665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A27-23DC-44E6-810E-687A42DE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D4C-154A-479A-9052-E5EAA7E6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486-550A-4DCA-A591-102651C6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2DB-1540-42C5-B7D4-DF3B0A67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FEE-9DCA-4417-86C8-E39924C5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097-F549-46AC-AF2C-8297CA02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68E-DCF5-40AF-8D75-6E5DACF2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CCA-7BA8-4DEF-A4ED-EEE1CB79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247D-0711-4195-BDB1-7D09114E9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ANd9GcRfVyS5q4KaGA4i6E5q12FitLBbL8w7tfibjEJYoi3XJDzB5aD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and 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120" y="594360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elinda C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029120" y="2886120"/>
            <a:ext cx="10857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1" descr="https://encrypted-tbn2.gstatic.com/images?q=tbn:ANd9GcTZhxlK-4MSCYQQHqjbfmjeqVQjXF6gdrGhGHPt5eGkOmJK-kfn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que 4"/>
          <p:cNvSpPr/>
          <p:nvPr/>
        </p:nvSpPr>
        <p:spPr>
          <a:xfrm>
            <a:off x="6462720" y="1874880"/>
            <a:ext cx="2693880" cy="838080"/>
          </a:xfrm>
          <a:custGeom>
            <a:avLst/>
            <a:gdLst>
              <a:gd name="textAreaLeft" fmla="*/ 98640 w 2693880"/>
              <a:gd name="textAreaRight" fmla="*/ 2595240 w 269388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694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5809" y="21600"/>
                </a:lnTo>
                <a:arcTo wR="3600" hR="3600" stAng="10800000" swAng="5400000"/>
                <a:lnTo>
                  <a:pt x="69409" y="3600"/>
                </a:lnTo>
                <a:arcTo wR="3600" hR="3600" stAng="5400000" swAng="5400000"/>
                <a:close/>
              </a:path>
            </a:pathLst>
          </a:custGeom>
          <a:solidFill>
            <a:srgbClr val="292c9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que 1"/>
          <p:cNvSpPr/>
          <p:nvPr/>
        </p:nvSpPr>
        <p:spPr>
          <a:xfrm>
            <a:off x="-3240" y="1874880"/>
            <a:ext cx="2898720" cy="1706400"/>
          </a:xfrm>
          <a:custGeom>
            <a:avLst/>
            <a:gdLst>
              <a:gd name="textAreaLeft" fmla="*/ 200880 w 2898720"/>
              <a:gd name="textAreaRight" fmla="*/ 2697840 w 2898720"/>
              <a:gd name="textAreaTop" fmla="*/ 200880 h 1706400"/>
              <a:gd name="textAreaBottom" fmla="*/ 1505520 h 1706400"/>
            </a:gdLst>
            <a:ahLst/>
            <a:rect l="textAreaLeft" t="textAreaTop" r="textAreaRight" b="textAreaBottom"/>
            <a:pathLst>
              <a:path w="366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089" y="21600"/>
                </a:lnTo>
                <a:arcTo wR="3600" hR="3600" stAng="10800000" swAng="5400000"/>
                <a:lnTo>
                  <a:pt x="36689" y="3600"/>
                </a:lnTo>
                <a:arcTo wR="3600" hR="3600" stAng="5400000" swAng="5400000"/>
                <a:close/>
              </a:path>
            </a:pathLst>
          </a:custGeom>
          <a:solidFill>
            <a:srgbClr val="292c9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que 6"/>
          <p:cNvSpPr/>
          <p:nvPr/>
        </p:nvSpPr>
        <p:spPr>
          <a:xfrm>
            <a:off x="2624040" y="380880"/>
            <a:ext cx="3853080" cy="1150920"/>
          </a:xfrm>
          <a:custGeom>
            <a:avLst/>
            <a:gdLst>
              <a:gd name="textAreaLeft" fmla="*/ 135360 w 3853080"/>
              <a:gd name="textAreaRight" fmla="*/ 3717720 w 3853080"/>
              <a:gd name="textAreaTop" fmla="*/ 135360 h 1150920"/>
              <a:gd name="textAreaBottom" fmla="*/ 1015560 h 1150920"/>
            </a:gdLst>
            <a:ahLst/>
            <a:rect l="textAreaLeft" t="textAreaTop" r="textAreaRight" b="textAreaBottom"/>
            <a:pathLst>
              <a:path w="722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697" y="21600"/>
                </a:lnTo>
                <a:arcTo wR="3600" hR="3600" stAng="10800000" swAng="5400000"/>
                <a:lnTo>
                  <a:pt x="72297" y="3600"/>
                </a:lnTo>
                <a:arcTo wR="3600" hR="3600" stAng="5400000" swAng="5400000"/>
                <a:close/>
              </a:path>
            </a:pathLst>
          </a:custGeom>
          <a:solidFill>
            <a:srgbClr val="292c9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ep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200" y="1828440"/>
            <a:ext cx="2971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eep sea sunlight can’t go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imals that live there have bodies that have adapted to the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sunlight can’t go there, there are no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6629400" y="1971720"/>
            <a:ext cx="2438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places are near th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pago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lands and Los Ange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Group 7" descr=""/>
          <p:cNvPicPr/>
          <p:nvPr/>
        </p:nvPicPr>
        <p:blipFill>
          <a:blip r:embed="rId2"/>
          <a:stretch/>
        </p:blipFill>
        <p:spPr>
          <a:xfrm>
            <a:off x="225360" y="3730680"/>
            <a:ext cx="3219480" cy="215748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9"/>
          <p:cNvGrpSpPr/>
          <p:nvPr/>
        </p:nvGrpSpPr>
        <p:grpSpPr>
          <a:xfrm>
            <a:off x="6629400" y="3554280"/>
            <a:ext cx="2355840" cy="1812960"/>
            <a:chOff x="6629400" y="3554280"/>
            <a:chExt cx="2355840" cy="1812960"/>
          </a:xfrm>
        </p:grpSpPr>
        <p:pic>
          <p:nvPicPr>
            <p:cNvPr id="222" name="Picture 7" descr=""/>
            <p:cNvPicPr/>
            <p:nvPr/>
          </p:nvPicPr>
          <p:blipFill>
            <a:blip r:embed="rId3"/>
            <a:stretch/>
          </p:blipFill>
          <p:spPr>
            <a:xfrm>
              <a:off x="7619760" y="399564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laque 8"/>
            <p:cNvSpPr/>
            <p:nvPr/>
          </p:nvSpPr>
          <p:spPr>
            <a:xfrm>
              <a:off x="6629400" y="3554280"/>
              <a:ext cx="1371600" cy="685800"/>
            </a:xfrm>
            <a:custGeom>
              <a:avLst/>
              <a:gdLst>
                <a:gd name="textAreaLeft" fmla="*/ 80640 w 1371600"/>
                <a:gd name="textAreaRight" fmla="*/ 1290960 w 1371600"/>
                <a:gd name="textAreaTop" fmla="*/ 80640 h 685800"/>
                <a:gd name="textAreaBottom" fmla="*/ 605160 h 685800"/>
              </a:gdLst>
              <a:ahLst/>
              <a:rect l="textAreaLeft" t="textAreaTop" r="textAreaRight" b="textAreaBottom"/>
              <a:pathLst>
                <a:path w="4318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9589" y="21600"/>
                  </a:lnTo>
                  <a:arcTo wR="3600" hR="3600" stAng="10800000" swAng="5400000"/>
                  <a:lnTo>
                    <a:pt x="4318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292c9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mbo Octo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3733920" y="1752480"/>
            <a:ext cx="1960560" cy="2183040"/>
            <a:chOff x="3733920" y="1752480"/>
            <a:chExt cx="1960560" cy="2183040"/>
          </a:xfrm>
        </p:grpSpPr>
        <p:pic>
          <p:nvPicPr>
            <p:cNvPr id="225" name="Picture 8" descr=""/>
            <p:cNvPicPr/>
            <p:nvPr/>
          </p:nvPicPr>
          <p:blipFill>
            <a:blip r:embed="rId4"/>
            <a:stretch/>
          </p:blipFill>
          <p:spPr>
            <a:xfrm>
              <a:off x="3733920" y="1752480"/>
              <a:ext cx="1960560" cy="14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laque 10"/>
            <p:cNvSpPr/>
            <p:nvPr/>
          </p:nvSpPr>
          <p:spPr>
            <a:xfrm>
              <a:off x="4016520" y="3021120"/>
              <a:ext cx="1393920" cy="914400"/>
            </a:xfrm>
            <a:custGeom>
              <a:avLst/>
              <a:gdLst>
                <a:gd name="textAreaLeft" fmla="*/ 107640 w 1393920"/>
                <a:gd name="textAreaRight" fmla="*/ 1286280 w 13939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3292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9323" y="21600"/>
                  </a:lnTo>
                  <a:arcTo wR="3600" hR="3600" stAng="10800000" swAng="5400000"/>
                  <a:lnTo>
                    <a:pt x="3292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292c9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gon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Group 12" descr=""/>
          <p:cNvPicPr/>
          <p:nvPr/>
        </p:nvPicPr>
        <p:blipFill>
          <a:blip r:embed="rId5"/>
          <a:stretch/>
        </p:blipFill>
        <p:spPr>
          <a:xfrm>
            <a:off x="4022640" y="4035600"/>
            <a:ext cx="25369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52960"/>
          </a:xfrm>
          <a:prstGeom prst="rect">
            <a:avLst/>
          </a:prstGeom>
          <a:ln w="0">
            <a:noFill/>
          </a:ln>
        </p:spPr>
      </p:pic>
      <p:sp>
        <p:nvSpPr>
          <p:cNvPr id="229" name="Cross 13"/>
          <p:cNvSpPr/>
          <p:nvPr/>
        </p:nvSpPr>
        <p:spPr>
          <a:xfrm>
            <a:off x="6477120" y="2948040"/>
            <a:ext cx="2438280" cy="10904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ross 12"/>
          <p:cNvSpPr/>
          <p:nvPr/>
        </p:nvSpPr>
        <p:spPr>
          <a:xfrm>
            <a:off x="76320" y="4883040"/>
            <a:ext cx="4419360" cy="19051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ross 11"/>
          <p:cNvSpPr/>
          <p:nvPr/>
        </p:nvSpPr>
        <p:spPr>
          <a:xfrm>
            <a:off x="3146400" y="152280"/>
            <a:ext cx="2895480" cy="17528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79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600" y="4952520"/>
            <a:ext cx="4114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undra is very cold and little r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ome animals finding food is very diffic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round is always frozen except for a few weeks every ye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6477120" y="302112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tundra's can be found along Russia and Canad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5"/>
          <p:cNvGrpSpPr/>
          <p:nvPr/>
        </p:nvGrpSpPr>
        <p:grpSpPr>
          <a:xfrm>
            <a:off x="76320" y="152280"/>
            <a:ext cx="2571480" cy="2170080"/>
            <a:chOff x="76320" y="152280"/>
            <a:chExt cx="2571480" cy="2170080"/>
          </a:xfrm>
        </p:grpSpPr>
        <p:pic>
          <p:nvPicPr>
            <p:cNvPr id="236" name="Picture 3" descr=""/>
            <p:cNvPicPr/>
            <p:nvPr/>
          </p:nvPicPr>
          <p:blipFill>
            <a:blip r:embed="rId2"/>
            <a:stretch/>
          </p:blipFill>
          <p:spPr>
            <a:xfrm>
              <a:off x="76320" y="152280"/>
              <a:ext cx="152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Cross 14"/>
            <p:cNvSpPr/>
            <p:nvPr/>
          </p:nvSpPr>
          <p:spPr>
            <a:xfrm>
              <a:off x="971640" y="1218960"/>
              <a:ext cx="1676160" cy="1103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tic F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7"/>
          <p:cNvGrpSpPr/>
          <p:nvPr/>
        </p:nvGrpSpPr>
        <p:grpSpPr>
          <a:xfrm>
            <a:off x="477720" y="2576520"/>
            <a:ext cx="3256200" cy="1639800"/>
            <a:chOff x="477720" y="2576520"/>
            <a:chExt cx="3256200" cy="1639800"/>
          </a:xfrm>
        </p:grpSpPr>
        <p:pic>
          <p:nvPicPr>
            <p:cNvPr id="239" name="Picture 4" descr=""/>
            <p:cNvPicPr/>
            <p:nvPr/>
          </p:nvPicPr>
          <p:blipFill>
            <a:blip r:embed="rId3"/>
            <a:stretch/>
          </p:blipFill>
          <p:spPr>
            <a:xfrm>
              <a:off x="477720" y="2576520"/>
              <a:ext cx="21708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Cross 16"/>
            <p:cNvSpPr/>
            <p:nvPr/>
          </p:nvSpPr>
          <p:spPr>
            <a:xfrm>
              <a:off x="2362320" y="3494160"/>
              <a:ext cx="1371600" cy="72216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ar 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0"/>
          <p:cNvGrpSpPr/>
          <p:nvPr/>
        </p:nvGrpSpPr>
        <p:grpSpPr>
          <a:xfrm>
            <a:off x="6041880" y="4573440"/>
            <a:ext cx="2854440" cy="2055960"/>
            <a:chOff x="6041880" y="4573440"/>
            <a:chExt cx="2854440" cy="2055960"/>
          </a:xfrm>
        </p:grpSpPr>
        <p:pic>
          <p:nvPicPr>
            <p:cNvPr id="242" name="Picture 5" descr=""/>
            <p:cNvPicPr/>
            <p:nvPr/>
          </p:nvPicPr>
          <p:blipFill>
            <a:blip r:embed="rId4"/>
            <a:stretch/>
          </p:blipFill>
          <p:spPr>
            <a:xfrm>
              <a:off x="7048440" y="5257800"/>
              <a:ext cx="1847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Cross 18"/>
            <p:cNvSpPr/>
            <p:nvPr/>
          </p:nvSpPr>
          <p:spPr>
            <a:xfrm>
              <a:off x="6041880" y="4573440"/>
              <a:ext cx="152424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ib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9"/>
          <p:cNvGrpSpPr/>
          <p:nvPr/>
        </p:nvGrpSpPr>
        <p:grpSpPr>
          <a:xfrm>
            <a:off x="4114800" y="1905120"/>
            <a:ext cx="2438280" cy="1904760"/>
            <a:chOff x="4114800" y="1905120"/>
            <a:chExt cx="2438280" cy="1904760"/>
          </a:xfrm>
        </p:grpSpPr>
        <p:pic>
          <p:nvPicPr>
            <p:cNvPr id="245" name="Picture 18" descr="https://encrypted-tbn1.gstatic.com/images?q=tbn:ANd9GcTaO9CSXw_OBPHk1MXSLaQ00G0aE30dgqKpjoA21KpSi7z86DlfWA"/>
            <p:cNvPicPr/>
            <p:nvPr/>
          </p:nvPicPr>
          <p:blipFill>
            <a:blip r:embed="rId5"/>
            <a:stretch/>
          </p:blipFill>
          <p:spPr>
            <a:xfrm>
              <a:off x="4647960" y="1905120"/>
              <a:ext cx="190512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Cross 17"/>
            <p:cNvSpPr/>
            <p:nvPr/>
          </p:nvSpPr>
          <p:spPr>
            <a:xfrm>
              <a:off x="4114800" y="2971800"/>
              <a:ext cx="1828800" cy="83808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sk O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ANd9GcTns3QewMZquDLEZwjsNAbliZ0JHMeeUySKSI3VYe8OHCFDEXN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9"/>
          <p:cNvSpPr/>
          <p:nvPr/>
        </p:nvSpPr>
        <p:spPr>
          <a:xfrm>
            <a:off x="6324480" y="3809880"/>
            <a:ext cx="2438640" cy="1143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0" y="1905120"/>
            <a:ext cx="3733920" cy="1143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 flipV="1">
            <a:off x="2209680" y="456120"/>
            <a:ext cx="480060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Rain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 temperature is 26 degrees calico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n height more then 3 meters usual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ts of different plants because of ra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8580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6553080" y="4038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laces are Brazil and Costa 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6"/>
          <p:cNvGrpSpPr/>
          <p:nvPr/>
        </p:nvGrpSpPr>
        <p:grpSpPr>
          <a:xfrm>
            <a:off x="457200" y="4267080"/>
            <a:ext cx="2743200" cy="1752480"/>
            <a:chOff x="457200" y="4267080"/>
            <a:chExt cx="2743200" cy="1752480"/>
          </a:xfrm>
        </p:grpSpPr>
        <p:pic>
          <p:nvPicPr>
            <p:cNvPr id="61" name="Picture 13" descr="ANd9GcT_wXjljhrWdeBUP4Ws-PFUHPtM1G9kn-oRKXuczW35GGqOhTRJ"/>
            <p:cNvPicPr/>
            <p:nvPr/>
          </p:nvPicPr>
          <p:blipFill>
            <a:blip r:embed="rId2"/>
            <a:stretch/>
          </p:blipFill>
          <p:spPr>
            <a:xfrm>
              <a:off x="457200" y="4267080"/>
              <a:ext cx="220968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AutoShape 25"/>
            <p:cNvSpPr/>
            <p:nvPr/>
          </p:nvSpPr>
          <p:spPr>
            <a:xfrm>
              <a:off x="1676160" y="556236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24"/>
          <p:cNvSpPr/>
          <p:nvPr/>
        </p:nvSpPr>
        <p:spPr>
          <a:xfrm>
            <a:off x="220968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0"/>
          <p:cNvGrpSpPr/>
          <p:nvPr/>
        </p:nvGrpSpPr>
        <p:grpSpPr>
          <a:xfrm>
            <a:off x="2438280" y="3200400"/>
            <a:ext cx="2667240" cy="2209680"/>
            <a:chOff x="2438280" y="3200400"/>
            <a:chExt cx="2667240" cy="2209680"/>
          </a:xfrm>
        </p:grpSpPr>
        <p:pic>
          <p:nvPicPr>
            <p:cNvPr id="65" name="Picture 15" descr="ANd9GcSb-UWgoI2fuxinfEA-0AY0cdANFzalhyAf_0kKG4qiqhz6FWYN"/>
            <p:cNvPicPr/>
            <p:nvPr/>
          </p:nvPicPr>
          <p:blipFill>
            <a:blip r:embed="rId3"/>
            <a:stretch/>
          </p:blipFill>
          <p:spPr>
            <a:xfrm>
              <a:off x="2438280" y="32004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27"/>
            <p:cNvSpPr/>
            <p:nvPr/>
          </p:nvSpPr>
          <p:spPr>
            <a:xfrm>
              <a:off x="3809880" y="4724280"/>
              <a:ext cx="1295640" cy="6858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u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2"/>
          <p:cNvGrpSpPr/>
          <p:nvPr/>
        </p:nvGrpSpPr>
        <p:grpSpPr>
          <a:xfrm>
            <a:off x="6286680" y="990720"/>
            <a:ext cx="2857320" cy="1828800"/>
            <a:chOff x="6286680" y="990720"/>
            <a:chExt cx="2857320" cy="1828800"/>
          </a:xfrm>
        </p:grpSpPr>
        <p:pic>
          <p:nvPicPr>
            <p:cNvPr id="68" name="Picture 19" descr="ANd9GcTBEH6CYhb2R8U1IIw0jPOKwtBiXg3Jn0dGkvjFykEvMxcG8Ygtbg"/>
            <p:cNvPicPr/>
            <p:nvPr/>
          </p:nvPicPr>
          <p:blipFill>
            <a:blip r:embed="rId4"/>
            <a:stretch/>
          </p:blipFill>
          <p:spPr>
            <a:xfrm>
              <a:off x="6286680" y="1219320"/>
              <a:ext cx="28573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AutoShape 33"/>
            <p:cNvSpPr/>
            <p:nvPr/>
          </p:nvSpPr>
          <p:spPr>
            <a:xfrm>
              <a:off x="7772400" y="990720"/>
              <a:ext cx="1218960" cy="380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gua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8"/>
          <p:cNvGrpSpPr/>
          <p:nvPr/>
        </p:nvGrpSpPr>
        <p:grpSpPr>
          <a:xfrm>
            <a:off x="4343400" y="1981080"/>
            <a:ext cx="2162160" cy="2457720"/>
            <a:chOff x="4343400" y="1981080"/>
            <a:chExt cx="2162160" cy="2457720"/>
          </a:xfrm>
        </p:grpSpPr>
        <p:pic>
          <p:nvPicPr>
            <p:cNvPr id="71" name="Picture 36" descr="ANd9GcQXZRJRbgHFUfqaItnp4-MeVfMAY34zRW8y5Yoj57VTDJNZThHIlQ"/>
            <p:cNvPicPr/>
            <p:nvPr/>
          </p:nvPicPr>
          <p:blipFill>
            <a:blip r:embed="rId5"/>
            <a:stretch/>
          </p:blipFill>
          <p:spPr>
            <a:xfrm>
              <a:off x="4648320" y="1981080"/>
              <a:ext cx="1857240" cy="24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AutoShape 31"/>
            <p:cNvSpPr/>
            <p:nvPr/>
          </p:nvSpPr>
          <p:spPr>
            <a:xfrm>
              <a:off x="4343400" y="1981080"/>
              <a:ext cx="1066680" cy="2286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37"/>
          <p:cNvSpPr/>
          <p:nvPr/>
        </p:nvSpPr>
        <p:spPr>
          <a:xfrm>
            <a:off x="4574160" y="19051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9" descr="ANd9GcR7M29_IzHnE7yKyJrv8un3toC7ZR2_5g8E_WJrBrpLcHK_6ko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2209680" y="457200"/>
            <a:ext cx="4800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5715000" y="3048120"/>
            <a:ext cx="2971800" cy="22860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0" y="1219320"/>
            <a:ext cx="4114800" cy="27432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interesting thing is that the grass there used to be over 2 meters t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other is mostly the only trees there are the ones near streams and wa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the grasslands change many animals die, only the strongest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5880" y="35053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locations are the Midwest of USA and Ca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228600" y="4267080"/>
            <a:ext cx="2590920" cy="1905120"/>
            <a:chOff x="228600" y="4267080"/>
            <a:chExt cx="2590920" cy="1905120"/>
          </a:xfrm>
        </p:grpSpPr>
        <p:pic>
          <p:nvPicPr>
            <p:cNvPr id="82" name="Picture 9" descr="ANd9GcTzCEgUMA8Jck1dnpr3zaBvcS8Wr_n2LrudScao7JzXNxIEeSc87g"/>
            <p:cNvPicPr/>
            <p:nvPr/>
          </p:nvPicPr>
          <p:blipFill>
            <a:blip r:embed="rId2"/>
            <a:stretch/>
          </p:blipFill>
          <p:spPr>
            <a:xfrm>
              <a:off x="533520" y="4267080"/>
              <a:ext cx="2286000" cy="16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10"/>
            <p:cNvSpPr/>
            <p:nvPr/>
          </p:nvSpPr>
          <p:spPr>
            <a:xfrm>
              <a:off x="228600" y="5334120"/>
              <a:ext cx="1066680" cy="838080"/>
            </a:xfrm>
            <a:prstGeom prst="diamond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5"/>
          <p:cNvGrpSpPr/>
          <p:nvPr/>
        </p:nvGrpSpPr>
        <p:grpSpPr>
          <a:xfrm>
            <a:off x="3809880" y="4572000"/>
            <a:ext cx="2638440" cy="2152800"/>
            <a:chOff x="3809880" y="4572000"/>
            <a:chExt cx="2638440" cy="2152800"/>
          </a:xfrm>
        </p:grpSpPr>
        <p:pic>
          <p:nvPicPr>
            <p:cNvPr id="85" name="Picture 13" descr="ANd9GcSRjmalQ3a_Twzvv-rxvcAY2rSrs5pG50-B0sbHAwHSfWhVgf1R"/>
            <p:cNvPicPr/>
            <p:nvPr/>
          </p:nvPicPr>
          <p:blipFill>
            <a:blip r:embed="rId3"/>
            <a:stretch/>
          </p:blipFill>
          <p:spPr>
            <a:xfrm>
              <a:off x="4343400" y="502920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AutoShape 14"/>
            <p:cNvSpPr/>
            <p:nvPr/>
          </p:nvSpPr>
          <p:spPr>
            <a:xfrm>
              <a:off x="3809880" y="4572000"/>
              <a:ext cx="1371600" cy="1066680"/>
            </a:xfrm>
            <a:prstGeom prst="diamond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eb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7"/>
          <p:cNvGrpSpPr/>
          <p:nvPr/>
        </p:nvGrpSpPr>
        <p:grpSpPr>
          <a:xfrm>
            <a:off x="5105520" y="1219320"/>
            <a:ext cx="2581200" cy="1752480"/>
            <a:chOff x="5105520" y="1219320"/>
            <a:chExt cx="2581200" cy="1752480"/>
          </a:xfrm>
        </p:grpSpPr>
        <p:pic>
          <p:nvPicPr>
            <p:cNvPr id="88" name="Picture 17" descr="ANd9GcQpLsX9VEg54VxxmpXnEgRD0ebNlXqWfVp6q_1dGzg1N4PaaKMOog"/>
            <p:cNvPicPr/>
            <p:nvPr/>
          </p:nvPicPr>
          <p:blipFill>
            <a:blip r:embed="rId4"/>
            <a:stretch/>
          </p:blipFill>
          <p:spPr>
            <a:xfrm>
              <a:off x="5562720" y="1219320"/>
              <a:ext cx="21240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18"/>
            <p:cNvSpPr/>
            <p:nvPr/>
          </p:nvSpPr>
          <p:spPr>
            <a:xfrm>
              <a:off x="5105520" y="2057400"/>
              <a:ext cx="1066680" cy="914400"/>
            </a:xfrm>
            <a:prstGeom prst="diamond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6"/>
          <p:cNvGrpSpPr/>
          <p:nvPr/>
        </p:nvGrpSpPr>
        <p:grpSpPr>
          <a:xfrm>
            <a:off x="3352680" y="3200400"/>
            <a:ext cx="2438640" cy="1600200"/>
            <a:chOff x="3352680" y="3200400"/>
            <a:chExt cx="2438640" cy="1600200"/>
          </a:xfrm>
        </p:grpSpPr>
        <p:pic>
          <p:nvPicPr>
            <p:cNvPr id="91" name="Picture 21" descr="ANd9GcTIzvVWGiKl75DXI6CHiT4sizwfbjvl7gt42-TxV5aVVPWqZa9UWA"/>
            <p:cNvPicPr/>
            <p:nvPr/>
          </p:nvPicPr>
          <p:blipFill>
            <a:blip r:embed="rId5"/>
            <a:stretch/>
          </p:blipFill>
          <p:spPr>
            <a:xfrm>
              <a:off x="3809880" y="3200400"/>
              <a:ext cx="198144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22"/>
            <p:cNvSpPr/>
            <p:nvPr/>
          </p:nvSpPr>
          <p:spPr>
            <a:xfrm>
              <a:off x="3352680" y="3809880"/>
              <a:ext cx="914400" cy="990720"/>
            </a:xfrm>
            <a:prstGeom prst="diamond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ANd9GcT6enqC35xR_H45GBREEnjeVK5idQQs44BVnvdQgVFiyJQARPr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286000" y="304920"/>
            <a:ext cx="457200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5562720" y="1447920"/>
            <a:ext cx="3352680" cy="1600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19920" y="1523880"/>
            <a:ext cx="2666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normally are in cooler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n’t have a lot of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trees there which are deciduous trees lose their leaves during w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0" y="4038480"/>
            <a:ext cx="3352680" cy="1143000"/>
            <a:chOff x="0" y="4038480"/>
            <a:chExt cx="3352680" cy="1143000"/>
          </a:xfrm>
        </p:grpSpPr>
        <p:sp>
          <p:nvSpPr>
            <p:cNvPr id="99" name="Oval 5"/>
            <p:cNvSpPr/>
            <p:nvPr/>
          </p:nvSpPr>
          <p:spPr>
            <a:xfrm>
              <a:off x="0" y="4038480"/>
              <a:ext cx="3352680" cy="1143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4"/>
            <p:cNvSpPr/>
            <p:nvPr/>
          </p:nvSpPr>
          <p:spPr>
            <a:xfrm>
              <a:off x="216000" y="4074840"/>
              <a:ext cx="29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lot are in eastern Ame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in Europe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762120" y="1676520"/>
            <a:ext cx="2666880" cy="2133360"/>
            <a:chOff x="762120" y="1676520"/>
            <a:chExt cx="2666880" cy="2133360"/>
          </a:xfrm>
        </p:grpSpPr>
        <p:pic>
          <p:nvPicPr>
            <p:cNvPr id="102" name="Picture 12" descr="ANd9GcQuKqYyQb__D_3E58Lc1etygPh2UMN6YJkU08waGnPLeo7dh8wj"/>
            <p:cNvPicPr/>
            <p:nvPr/>
          </p:nvPicPr>
          <p:blipFill>
            <a:blip r:embed="rId2"/>
            <a:stretch/>
          </p:blipFill>
          <p:spPr>
            <a:xfrm>
              <a:off x="762120" y="1676520"/>
              <a:ext cx="152388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Oval 13"/>
            <p:cNvSpPr/>
            <p:nvPr/>
          </p:nvSpPr>
          <p:spPr>
            <a:xfrm>
              <a:off x="1752480" y="289548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w o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17"/>
          <p:cNvSpPr/>
          <p:nvPr/>
        </p:nvSpPr>
        <p:spPr>
          <a:xfrm>
            <a:off x="3809880" y="2838600"/>
            <a:ext cx="152424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4"/>
          <p:cNvGrpSpPr/>
          <p:nvPr/>
        </p:nvGrpSpPr>
        <p:grpSpPr>
          <a:xfrm>
            <a:off x="3886200" y="2895480"/>
            <a:ext cx="2819520" cy="1828800"/>
            <a:chOff x="3886200" y="2895480"/>
            <a:chExt cx="2819520" cy="1828800"/>
          </a:xfrm>
        </p:grpSpPr>
        <p:pic>
          <p:nvPicPr>
            <p:cNvPr id="106" name="Picture 21" descr="racoonsm"/>
            <p:cNvPicPr/>
            <p:nvPr/>
          </p:nvPicPr>
          <p:blipFill>
            <a:blip r:embed="rId3"/>
            <a:stretch/>
          </p:blipFill>
          <p:spPr>
            <a:xfrm>
              <a:off x="3886200" y="2895480"/>
              <a:ext cx="19051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Oval 22"/>
            <p:cNvSpPr/>
            <p:nvPr/>
          </p:nvSpPr>
          <p:spPr>
            <a:xfrm>
              <a:off x="5105520" y="3886200"/>
              <a:ext cx="1600200" cy="838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cco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9"/>
          <p:cNvGrpSpPr/>
          <p:nvPr/>
        </p:nvGrpSpPr>
        <p:grpSpPr>
          <a:xfrm>
            <a:off x="6705720" y="3048120"/>
            <a:ext cx="2209680" cy="1981080"/>
            <a:chOff x="6705720" y="3048120"/>
            <a:chExt cx="2209680" cy="1981080"/>
          </a:xfrm>
        </p:grpSpPr>
        <p:pic>
          <p:nvPicPr>
            <p:cNvPr id="109" name="Picture 26" descr="plants-animals-deciduous-forests-1"/>
            <p:cNvPicPr/>
            <p:nvPr/>
          </p:nvPicPr>
          <p:blipFill>
            <a:blip r:embed="rId4"/>
            <a:stretch/>
          </p:blipFill>
          <p:spPr>
            <a:xfrm>
              <a:off x="6934320" y="3048120"/>
              <a:ext cx="1981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Oval 27"/>
            <p:cNvSpPr/>
            <p:nvPr/>
          </p:nvSpPr>
          <p:spPr>
            <a:xfrm>
              <a:off x="6705720" y="4114800"/>
              <a:ext cx="182880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4"/>
          <p:cNvGrpSpPr/>
          <p:nvPr/>
        </p:nvGrpSpPr>
        <p:grpSpPr>
          <a:xfrm>
            <a:off x="3124080" y="4572000"/>
            <a:ext cx="2924280" cy="1752480"/>
            <a:chOff x="3124080" y="4572000"/>
            <a:chExt cx="2924280" cy="1752480"/>
          </a:xfrm>
        </p:grpSpPr>
        <p:pic>
          <p:nvPicPr>
            <p:cNvPr id="112" name="Picture 31" descr="ANd9GcRgJ0dkrnd3eEQtP7gltl505oCSvp6dHaHQQPiaVZS4ffb6kfrX"/>
            <p:cNvPicPr/>
            <p:nvPr/>
          </p:nvPicPr>
          <p:blipFill>
            <a:blip r:embed="rId5"/>
            <a:stretch/>
          </p:blipFill>
          <p:spPr>
            <a:xfrm>
              <a:off x="3962520" y="4572000"/>
              <a:ext cx="208584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Oval 32"/>
            <p:cNvSpPr/>
            <p:nvPr/>
          </p:nvSpPr>
          <p:spPr>
            <a:xfrm>
              <a:off x="3124080" y="5715000"/>
              <a:ext cx="1143000" cy="609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6" descr="ANd9GcQDIQS41ha1Sf1z0D44aWlg1MHeUgi2ua2lDq2K11ZJrMNwqHmD"/>
          <p:cNvPicPr/>
          <p:nvPr/>
        </p:nvPicPr>
        <p:blipFill>
          <a:blip r:embed="rId1"/>
          <a:srcRect l="0" t="0" r="0" b="68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7"/>
          <p:cNvSpPr/>
          <p:nvPr/>
        </p:nvSpPr>
        <p:spPr>
          <a:xfrm>
            <a:off x="304920" y="1371600"/>
            <a:ext cx="3124080" cy="1828800"/>
          </a:xfrm>
          <a:prstGeom prst="octagon">
            <a:avLst>
              <a:gd name="adj" fmla="val 2928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276720" y="304920"/>
            <a:ext cx="2590560" cy="10666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all trees haves needles like the p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ly cold all the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dry but not to d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9"/>
          <p:cNvGrpSpPr/>
          <p:nvPr/>
        </p:nvGrpSpPr>
        <p:grpSpPr>
          <a:xfrm>
            <a:off x="5638680" y="3809880"/>
            <a:ext cx="3353040" cy="1219320"/>
            <a:chOff x="5638680" y="3809880"/>
            <a:chExt cx="3353040" cy="1219320"/>
          </a:xfrm>
        </p:grpSpPr>
        <p:sp>
          <p:nvSpPr>
            <p:cNvPr id="120" name="AutoShape 8"/>
            <p:cNvSpPr/>
            <p:nvPr/>
          </p:nvSpPr>
          <p:spPr>
            <a:xfrm>
              <a:off x="5638680" y="3809880"/>
              <a:ext cx="3353040" cy="1219320"/>
            </a:xfrm>
            <a:prstGeom prst="octagon">
              <a:avLst>
                <a:gd name="adj" fmla="val 2928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5943600" y="3886200"/>
              <a:ext cx="297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biome can be found in Canada and Russ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4"/>
          <p:cNvGrpSpPr/>
          <p:nvPr/>
        </p:nvGrpSpPr>
        <p:grpSpPr>
          <a:xfrm>
            <a:off x="609480" y="3733920"/>
            <a:ext cx="3124080" cy="2209680"/>
            <a:chOff x="609480" y="3733920"/>
            <a:chExt cx="3124080" cy="2209680"/>
          </a:xfrm>
        </p:grpSpPr>
        <p:pic>
          <p:nvPicPr>
            <p:cNvPr id="123" name="Picture 11" descr="ANd9GcTGl7x-0Ql5NhSQ7DT_WMReKVlUDH_YI0diuRv8eVpoWmHyK-Ae"/>
            <p:cNvPicPr/>
            <p:nvPr/>
          </p:nvPicPr>
          <p:blipFill>
            <a:blip r:embed="rId2"/>
            <a:stretch/>
          </p:blipFill>
          <p:spPr>
            <a:xfrm>
              <a:off x="609480" y="3733920"/>
              <a:ext cx="2247840" cy="20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12"/>
            <p:cNvSpPr/>
            <p:nvPr/>
          </p:nvSpPr>
          <p:spPr>
            <a:xfrm>
              <a:off x="2361960" y="5257800"/>
              <a:ext cx="1371600" cy="685800"/>
            </a:xfrm>
            <a:prstGeom prst="octagon">
              <a:avLst>
                <a:gd name="adj" fmla="val 2928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6"/>
          <p:cNvGrpSpPr/>
          <p:nvPr/>
        </p:nvGrpSpPr>
        <p:grpSpPr>
          <a:xfrm>
            <a:off x="3124080" y="2819520"/>
            <a:ext cx="2743200" cy="1942920"/>
            <a:chOff x="3124080" y="2819520"/>
            <a:chExt cx="2743200" cy="1942920"/>
          </a:xfrm>
        </p:grpSpPr>
        <p:pic>
          <p:nvPicPr>
            <p:cNvPr id="126" name="Picture 16" descr="ANd9GcRQTBaCw7Ti1XZ2eBZgbd4fdK7rIqKhN9N7pHDKaAZmQ97FkUU3Sg"/>
            <p:cNvPicPr/>
            <p:nvPr/>
          </p:nvPicPr>
          <p:blipFill>
            <a:blip r:embed="rId3"/>
            <a:stretch/>
          </p:blipFill>
          <p:spPr>
            <a:xfrm>
              <a:off x="3124080" y="3048120"/>
              <a:ext cx="22860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AutoShape 24"/>
            <p:cNvSpPr/>
            <p:nvPr/>
          </p:nvSpPr>
          <p:spPr>
            <a:xfrm>
              <a:off x="4724280" y="2819520"/>
              <a:ext cx="1143000" cy="685800"/>
            </a:xfrm>
            <a:prstGeom prst="octagon">
              <a:avLst>
                <a:gd name="adj" fmla="val 2928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nowy o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9"/>
          <p:cNvGrpSpPr/>
          <p:nvPr/>
        </p:nvGrpSpPr>
        <p:grpSpPr>
          <a:xfrm>
            <a:off x="6172200" y="685800"/>
            <a:ext cx="2209680" cy="2438280"/>
            <a:chOff x="6172200" y="685800"/>
            <a:chExt cx="2209680" cy="2438280"/>
          </a:xfrm>
        </p:grpSpPr>
        <p:pic>
          <p:nvPicPr>
            <p:cNvPr id="129" name="Picture 21" descr="ANd9GcRWGryk9TX4fzfKocNUgBT67gGBdJNY85ZQv0HTOeCOUfhKIKXkvg"/>
            <p:cNvPicPr/>
            <p:nvPr/>
          </p:nvPicPr>
          <p:blipFill>
            <a:blip r:embed="rId4"/>
            <a:srcRect l="0" t="0" r="0" b="10450"/>
            <a:stretch/>
          </p:blipFill>
          <p:spPr>
            <a:xfrm>
              <a:off x="6172200" y="838080"/>
              <a:ext cx="15429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AutoShape 27"/>
            <p:cNvSpPr/>
            <p:nvPr/>
          </p:nvSpPr>
          <p:spPr>
            <a:xfrm>
              <a:off x="7391520" y="685800"/>
              <a:ext cx="990360" cy="609480"/>
            </a:xfrm>
            <a:prstGeom prst="octagon">
              <a:avLst>
                <a:gd name="adj" fmla="val 2928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4"/>
          <p:cNvGrpSpPr/>
          <p:nvPr/>
        </p:nvGrpSpPr>
        <p:grpSpPr>
          <a:xfrm>
            <a:off x="4419720" y="5029200"/>
            <a:ext cx="2895480" cy="1521000"/>
            <a:chOff x="4419720" y="5029200"/>
            <a:chExt cx="2895480" cy="1521000"/>
          </a:xfrm>
        </p:grpSpPr>
        <p:pic>
          <p:nvPicPr>
            <p:cNvPr id="132" name="Picture 31" descr="ANd9GcQ-VITH-qDw-9H82m5_dLErUL6i7Mw62r3wENhuUsvV9ntEVn5W"/>
            <p:cNvPicPr/>
            <p:nvPr/>
          </p:nvPicPr>
          <p:blipFill>
            <a:blip r:embed="rId5"/>
            <a:stretch/>
          </p:blipFill>
          <p:spPr>
            <a:xfrm>
              <a:off x="5257800" y="5181480"/>
              <a:ext cx="205740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AutoShape 32"/>
            <p:cNvSpPr/>
            <p:nvPr/>
          </p:nvSpPr>
          <p:spPr>
            <a:xfrm>
              <a:off x="4419720" y="5029200"/>
              <a:ext cx="1295280" cy="533520"/>
            </a:xfrm>
            <a:prstGeom prst="octagon">
              <a:avLst>
                <a:gd name="adj" fmla="val 2928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ay 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" descr="ANd9GcQIEkiGDIB3ZaGyIL5PW8Nf5yvaBobgdWG2g4i9-tY7pg_ZufL1A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7"/>
          <p:cNvSpPr/>
          <p:nvPr/>
        </p:nvSpPr>
        <p:spPr>
          <a:xfrm>
            <a:off x="3276720" y="0"/>
            <a:ext cx="2514600" cy="18288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 rot="199200">
            <a:off x="4512960" y="271440"/>
            <a:ext cx="4191120" cy="33526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 rot="5073000">
            <a:off x="842040" y="33840"/>
            <a:ext cx="3500280" cy="39560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81120" y="990360"/>
            <a:ext cx="3124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deserts have sand some are ro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eserts get few rain and sn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eserts are hot during day time and cold at n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90720" y="12952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s can be found every where but two specific places are Africa and North A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5791320" y="3581280"/>
            <a:ext cx="3352680" cy="1905120"/>
            <a:chOff x="5791320" y="3581280"/>
            <a:chExt cx="3352680" cy="1905120"/>
          </a:xfrm>
        </p:grpSpPr>
        <p:pic>
          <p:nvPicPr>
            <p:cNvPr id="142" name="Picture 11" descr="ANd9GcQEWf0jccD15wY3NK25BOY3XSGA7NnbmclBZcBjhDzNI2C5yNMb"/>
            <p:cNvPicPr/>
            <p:nvPr/>
          </p:nvPicPr>
          <p:blipFill>
            <a:blip r:embed="rId2"/>
            <a:srcRect l="2782" t="4579" r="2782" b="8575"/>
            <a:stretch/>
          </p:blipFill>
          <p:spPr>
            <a:xfrm>
              <a:off x="6553080" y="3581280"/>
              <a:ext cx="25909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12"/>
            <p:cNvSpPr/>
            <p:nvPr/>
          </p:nvSpPr>
          <p:spPr>
            <a:xfrm>
              <a:off x="5791320" y="4343400"/>
              <a:ext cx="1828800" cy="114300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ila mon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9"/>
          <p:cNvGrpSpPr/>
          <p:nvPr/>
        </p:nvGrpSpPr>
        <p:grpSpPr>
          <a:xfrm>
            <a:off x="0" y="3581280"/>
            <a:ext cx="3124080" cy="2210040"/>
            <a:chOff x="0" y="3581280"/>
            <a:chExt cx="3124080" cy="2210040"/>
          </a:xfrm>
        </p:grpSpPr>
        <p:pic>
          <p:nvPicPr>
            <p:cNvPr id="145" name="Picture 16" descr="ANd9GcTBrp1f7-wkM18qDGFW59CPTealTR2SaEnb6JotC_ECMQQhkZfbCg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22860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7"/>
            <p:cNvSpPr/>
            <p:nvPr/>
          </p:nvSpPr>
          <p:spPr>
            <a:xfrm>
              <a:off x="1600200" y="4419720"/>
              <a:ext cx="1523880" cy="137160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m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4"/>
          <p:cNvGrpSpPr/>
          <p:nvPr/>
        </p:nvGrpSpPr>
        <p:grpSpPr>
          <a:xfrm>
            <a:off x="3809880" y="2895480"/>
            <a:ext cx="1676520" cy="2133360"/>
            <a:chOff x="3809880" y="2895480"/>
            <a:chExt cx="1676520" cy="2133360"/>
          </a:xfrm>
        </p:grpSpPr>
        <p:pic>
          <p:nvPicPr>
            <p:cNvPr id="148" name="Picture 21" descr="IMG_2507"/>
            <p:cNvPicPr/>
            <p:nvPr/>
          </p:nvPicPr>
          <p:blipFill>
            <a:blip r:embed="rId4"/>
            <a:srcRect l="9095" t="3945" r="9095" b="13234"/>
            <a:stretch/>
          </p:blipFill>
          <p:spPr>
            <a:xfrm>
              <a:off x="3809880" y="2895480"/>
              <a:ext cx="16765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AutoShape 22"/>
            <p:cNvSpPr/>
            <p:nvPr/>
          </p:nvSpPr>
          <p:spPr>
            <a:xfrm>
              <a:off x="3933720" y="3836520"/>
              <a:ext cx="1552320" cy="11923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ckrabbi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9"/>
          <p:cNvGrpSpPr/>
          <p:nvPr/>
        </p:nvGrpSpPr>
        <p:grpSpPr>
          <a:xfrm>
            <a:off x="3886200" y="5029200"/>
            <a:ext cx="1676520" cy="1828800"/>
            <a:chOff x="3886200" y="5029200"/>
            <a:chExt cx="1676520" cy="1828800"/>
          </a:xfrm>
        </p:grpSpPr>
        <p:pic>
          <p:nvPicPr>
            <p:cNvPr id="151" name="Picture 26" descr="ANd9GcQTg1hV8IaQTcY5s0llsKGrNB96gKde1xZYFwrVEXPMAbpPpOBC1Q"/>
            <p:cNvPicPr/>
            <p:nvPr/>
          </p:nvPicPr>
          <p:blipFill>
            <a:blip r:embed="rId5"/>
            <a:stretch/>
          </p:blipFill>
          <p:spPr>
            <a:xfrm>
              <a:off x="3886200" y="5742000"/>
              <a:ext cx="1676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AutoShape 27"/>
            <p:cNvSpPr/>
            <p:nvPr/>
          </p:nvSpPr>
          <p:spPr>
            <a:xfrm>
              <a:off x="4114800" y="5029200"/>
              <a:ext cx="1219320" cy="91440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orp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1" descr="ANd9GcRGW0J7YDPhAupm2hCWR1uZ2MfQzGKXmSUXq9kS-xrER13VeiSY0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0" y="4495680"/>
            <a:ext cx="9144000" cy="2362320"/>
          </a:xfrm>
          <a:prstGeom prst="hexagon">
            <a:avLst>
              <a:gd name="adj" fmla="val 96769"/>
              <a:gd name="vf" fmla="val 11547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3124080" y="228600"/>
            <a:ext cx="2743200" cy="1143000"/>
          </a:xfrm>
          <a:prstGeom prst="hexagon">
            <a:avLst>
              <a:gd name="adj" fmla="val 60000"/>
              <a:gd name="vf" fmla="val 11547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495252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different rivers live different fish and ani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ason why is because some rivers are fast some are s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nimals that live in rivers can’t live in the ocean because of the sal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876920" y="518148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river are the Nile in Egypt and the Amazon in Afr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380880" y="533520"/>
            <a:ext cx="2900520" cy="1752480"/>
            <a:chOff x="380880" y="533520"/>
            <a:chExt cx="2900520" cy="1752480"/>
          </a:xfrm>
        </p:grpSpPr>
        <p:pic>
          <p:nvPicPr>
            <p:cNvPr id="160" name="Picture 9" descr="ANd9GcRHbO31EnN89K1ldDwpbMYYXqxIJavzxbKGx6N6K3hH3LCqeqn8mQ"/>
            <p:cNvPicPr/>
            <p:nvPr/>
          </p:nvPicPr>
          <p:blipFill>
            <a:blip r:embed="rId2"/>
            <a:stretch/>
          </p:blipFill>
          <p:spPr>
            <a:xfrm>
              <a:off x="380880" y="533520"/>
              <a:ext cx="194796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10"/>
            <p:cNvSpPr/>
            <p:nvPr/>
          </p:nvSpPr>
          <p:spPr>
            <a:xfrm>
              <a:off x="1371600" y="1447920"/>
              <a:ext cx="1909800" cy="838080"/>
            </a:xfrm>
            <a:prstGeom prst="hexagon">
              <a:avLst>
                <a:gd name="adj" fmla="val 56970"/>
                <a:gd name="vf" fmla="val 11547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7"/>
          <p:cNvGrpSpPr/>
          <p:nvPr/>
        </p:nvGrpSpPr>
        <p:grpSpPr>
          <a:xfrm>
            <a:off x="5715000" y="609480"/>
            <a:ext cx="3152880" cy="1752840"/>
            <a:chOff x="5715000" y="609480"/>
            <a:chExt cx="3152880" cy="1752840"/>
          </a:xfrm>
        </p:grpSpPr>
        <p:pic>
          <p:nvPicPr>
            <p:cNvPr id="163" name="Picture 14" descr="ANd9GcRuWzVWtxYLJt-l4fVGvuG_QGycCg72x_6WAMzlrqctwJ8WmDhzGA"/>
            <p:cNvPicPr/>
            <p:nvPr/>
          </p:nvPicPr>
          <p:blipFill>
            <a:blip r:embed="rId3"/>
            <a:stretch/>
          </p:blipFill>
          <p:spPr>
            <a:xfrm>
              <a:off x="6934320" y="609480"/>
              <a:ext cx="19335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15"/>
            <p:cNvSpPr/>
            <p:nvPr/>
          </p:nvSpPr>
          <p:spPr>
            <a:xfrm>
              <a:off x="5715000" y="1600200"/>
              <a:ext cx="1752480" cy="762120"/>
            </a:xfrm>
            <a:prstGeom prst="hexagon">
              <a:avLst>
                <a:gd name="adj" fmla="val 57487"/>
                <a:gd name="vf" fmla="val 11547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ver O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4648320" y="2362320"/>
            <a:ext cx="2890800" cy="1828800"/>
            <a:chOff x="4648320" y="2362320"/>
            <a:chExt cx="2890800" cy="1828800"/>
          </a:xfrm>
        </p:grpSpPr>
        <p:pic>
          <p:nvPicPr>
            <p:cNvPr id="166" name="Picture 19" descr="Alligator in the Amazon"/>
            <p:cNvPicPr/>
            <p:nvPr/>
          </p:nvPicPr>
          <p:blipFill>
            <a:blip r:embed="rId4"/>
            <a:stretch/>
          </p:blipFill>
          <p:spPr>
            <a:xfrm>
              <a:off x="5410080" y="2362320"/>
              <a:ext cx="21290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AutoShape 20"/>
            <p:cNvSpPr/>
            <p:nvPr/>
          </p:nvSpPr>
          <p:spPr>
            <a:xfrm>
              <a:off x="4648320" y="3429000"/>
              <a:ext cx="1295280" cy="762120"/>
            </a:xfrm>
            <a:prstGeom prst="hexagon">
              <a:avLst>
                <a:gd name="adj" fmla="val 42489"/>
                <a:gd name="vf" fmla="val 11547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lig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9"/>
          <p:cNvGrpSpPr/>
          <p:nvPr/>
        </p:nvGrpSpPr>
        <p:grpSpPr>
          <a:xfrm>
            <a:off x="1447920" y="2286000"/>
            <a:ext cx="2819160" cy="1905120"/>
            <a:chOff x="1447920" y="2286000"/>
            <a:chExt cx="2819160" cy="1905120"/>
          </a:xfrm>
        </p:grpSpPr>
        <p:pic>
          <p:nvPicPr>
            <p:cNvPr id="169" name="Picture 25" descr="ANd9GcROia1Yq7bGlbGGL7VpCERkUQ-6O_ySNpUkxGZx6LN4CHStHCjpKg"/>
            <p:cNvPicPr/>
            <p:nvPr/>
          </p:nvPicPr>
          <p:blipFill>
            <a:blip r:embed="rId5"/>
            <a:stretch/>
          </p:blipFill>
          <p:spPr>
            <a:xfrm>
              <a:off x="1447920" y="2286000"/>
              <a:ext cx="21333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27"/>
            <p:cNvSpPr/>
            <p:nvPr/>
          </p:nvSpPr>
          <p:spPr>
            <a:xfrm>
              <a:off x="2971800" y="3429000"/>
              <a:ext cx="1295280" cy="762120"/>
            </a:xfrm>
            <a:prstGeom prst="hexagon">
              <a:avLst>
                <a:gd name="adj" fmla="val 42489"/>
                <a:gd name="vf" fmla="val 11547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lp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5" descr="ANd9GcRlq0tlgKzGFk85TsS-445Y6PHpJTDedudk9p_8xArRINJ-ib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0" y="1905120"/>
            <a:ext cx="2743200" cy="1904760"/>
          </a:xfrm>
          <a:custGeom>
            <a:avLst/>
            <a:gdLst>
              <a:gd name="textAreaLeft" fmla="*/ 224280 w 2743200"/>
              <a:gd name="textAreaRight" fmla="*/ 2518920 w 2743200"/>
              <a:gd name="textAreaTop" fmla="*/ 224280 h 1904760"/>
              <a:gd name="textAreaBottom" fmla="*/ 1680480 h 1904760"/>
            </a:gdLst>
            <a:ahLst/>
            <a:rect l="textAreaLeft" t="textAreaTop" r="textAreaRight" b="textAreaBottom"/>
            <a:pathLst>
              <a:path w="3110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506" y="21600"/>
                </a:lnTo>
                <a:arcTo wR="3600" hR="3600" stAng="10800000" swAng="5400000"/>
                <a:lnTo>
                  <a:pt x="31106" y="3600"/>
                </a:lnTo>
                <a:arcTo wR="3600" hR="3600" stAng="5400000" swAng="5400000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200400" y="228600"/>
            <a:ext cx="2743200" cy="1295280"/>
          </a:xfrm>
          <a:custGeom>
            <a:avLst/>
            <a:gdLst>
              <a:gd name="textAreaLeft" fmla="*/ 152640 w 2743200"/>
              <a:gd name="textAreaRight" fmla="*/ 2590560 w 274320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4573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139" y="21600"/>
                </a:lnTo>
                <a:arcTo wR="3600" hR="3600" stAng="10800000" swAng="5400000"/>
                <a:lnTo>
                  <a:pt x="45739" y="3600"/>
                </a:lnTo>
                <a:arcTo wR="3600" hR="3600" stAng="5400000" swAng="5400000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28954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etlands have tall grass called saw gr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the grass is three meters t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wetland is mostly water for about part of the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6095880" y="1905120"/>
            <a:ext cx="3581280" cy="1218960"/>
            <a:chOff x="6095880" y="1905120"/>
            <a:chExt cx="3581280" cy="1218960"/>
          </a:xfrm>
        </p:grpSpPr>
        <p:sp>
          <p:nvSpPr>
            <p:cNvPr id="177" name="AutoShape 8"/>
            <p:cNvSpPr/>
            <p:nvPr/>
          </p:nvSpPr>
          <p:spPr>
            <a:xfrm>
              <a:off x="6095880" y="1905120"/>
              <a:ext cx="3047760" cy="1218960"/>
            </a:xfrm>
            <a:custGeom>
              <a:avLst/>
              <a:gdLst>
                <a:gd name="textAreaLeft" fmla="*/ 143640 w 3047760"/>
                <a:gd name="textAreaRight" fmla="*/ 2904120 w 3047760"/>
                <a:gd name="textAreaTop" fmla="*/ 143640 h 1218960"/>
                <a:gd name="textAreaBottom" fmla="*/ 1075320 h 1218960"/>
              </a:gdLst>
              <a:ahLst/>
              <a:rect l="textAreaLeft" t="textAreaTop" r="textAreaRight" b="textAreaBottom"/>
              <a:pathLst>
                <a:path w="5399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0397" y="21600"/>
                  </a:lnTo>
                  <a:arcTo wR="3600" hR="3600" stAng="10800000" swAng="5400000"/>
                  <a:lnTo>
                    <a:pt x="53997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"/>
            <p:cNvSpPr/>
            <p:nvPr/>
          </p:nvSpPr>
          <p:spPr>
            <a:xfrm>
              <a:off x="6095880" y="1905120"/>
              <a:ext cx="35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wo locations of a wetland is Florida and South Caro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3"/>
          <p:cNvGrpSpPr/>
          <p:nvPr/>
        </p:nvGrpSpPr>
        <p:grpSpPr>
          <a:xfrm>
            <a:off x="838080" y="1905120"/>
            <a:ext cx="7810560" cy="4952880"/>
            <a:chOff x="838080" y="1905120"/>
            <a:chExt cx="7810560" cy="4952880"/>
          </a:xfrm>
        </p:grpSpPr>
        <p:grpSp>
          <p:nvGrpSpPr>
            <p:cNvPr id="180" name="Group 30"/>
            <p:cNvGrpSpPr/>
            <p:nvPr/>
          </p:nvGrpSpPr>
          <p:grpSpPr>
            <a:xfrm>
              <a:off x="5943600" y="4305240"/>
              <a:ext cx="2705040" cy="2552760"/>
              <a:chOff x="5943600" y="4305240"/>
              <a:chExt cx="2705040" cy="2552760"/>
            </a:xfrm>
          </p:grpSpPr>
          <p:pic>
            <p:nvPicPr>
              <p:cNvPr id="181" name="Picture 27" descr="ANd9GcTnvJSYunzid0KYmv78qy8-2QSyB5YhmBeTiLsIg1NIorBVCwFU"/>
              <p:cNvPicPr/>
              <p:nvPr/>
            </p:nvPicPr>
            <p:blipFill>
              <a:blip r:embed="rId2"/>
              <a:stretch/>
            </p:blipFill>
            <p:spPr>
              <a:xfrm>
                <a:off x="6553080" y="4762440"/>
                <a:ext cx="2095560" cy="209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AutoShape 28"/>
              <p:cNvSpPr/>
              <p:nvPr/>
            </p:nvSpPr>
            <p:spPr>
              <a:xfrm>
                <a:off x="5943600" y="4305240"/>
                <a:ext cx="1295280" cy="762120"/>
              </a:xfrm>
              <a:custGeom>
                <a:avLst/>
                <a:gdLst>
                  <a:gd name="textAreaLeft" fmla="*/ 89640 w 1295280"/>
                  <a:gd name="textAreaRight" fmla="*/ 1205640 w 1295280"/>
                  <a:gd name="textAreaTop" fmla="*/ 89640 h 762120"/>
                  <a:gd name="textAreaBottom" fmla="*/ 672480 h 762120"/>
                </a:gdLst>
                <a:ahLst/>
                <a:rect l="textAreaLeft" t="textAreaTop" r="textAreaRight" b="textAreaBottom"/>
                <a:pathLst>
                  <a:path w="36704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3104" y="21600"/>
                    </a:lnTo>
                    <a:arcTo wR="3600" hR="3600" stAng="10800000" swAng="5400000"/>
                    <a:lnTo>
                      <a:pt x="36704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ea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22"/>
            <p:cNvGrpSpPr/>
            <p:nvPr/>
          </p:nvGrpSpPr>
          <p:grpSpPr>
            <a:xfrm>
              <a:off x="838080" y="1905120"/>
              <a:ext cx="5639040" cy="4343400"/>
              <a:chOff x="838080" y="1905120"/>
              <a:chExt cx="5639040" cy="4343400"/>
            </a:xfrm>
          </p:grpSpPr>
          <p:grpSp>
            <p:nvGrpSpPr>
              <p:cNvPr id="184" name="Group 25"/>
              <p:cNvGrpSpPr/>
              <p:nvPr/>
            </p:nvGrpSpPr>
            <p:grpSpPr>
              <a:xfrm>
                <a:off x="838080" y="4191120"/>
                <a:ext cx="3581280" cy="2057400"/>
                <a:chOff x="838080" y="4191120"/>
                <a:chExt cx="3581280" cy="2057400"/>
              </a:xfrm>
            </p:grpSpPr>
            <p:pic>
              <p:nvPicPr>
                <p:cNvPr id="185" name="Picture 22" descr="ANd9GcT77It3AZ2SaPthSYd0iFM3q2vXbvzvpco6lk4zCAja3DQ4uoqS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080" y="4191120"/>
                  <a:ext cx="280008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AutoShape 23"/>
                <p:cNvSpPr/>
                <p:nvPr/>
              </p:nvSpPr>
              <p:spPr>
                <a:xfrm>
                  <a:off x="2438280" y="5410080"/>
                  <a:ext cx="1981080" cy="838440"/>
                </a:xfrm>
                <a:custGeom>
                  <a:avLst/>
                  <a:gdLst>
                    <a:gd name="textAreaLeft" fmla="*/ 98640 w 1981080"/>
                    <a:gd name="textAreaRight" fmla="*/ 1882440 w 1981080"/>
                    <a:gd name="textAreaTop" fmla="*/ 98640 h 838440"/>
                    <a:gd name="textAreaBottom" fmla="*/ 739800 h 838440"/>
                  </a:gdLst>
                  <a:ahLst/>
                  <a:rect l="textAreaLeft" t="textAreaTop" r="textAreaRight" b="textAreaBottom"/>
                  <a:pathLst>
                    <a:path w="51024" h="21600">
                      <a:moveTo>
                        <a:pt x="3600" y="0"/>
                      </a:moveTo>
                      <a:arcTo wR="3600" hR="3600" stAng="0" swAng="5400000"/>
                      <a:lnTo>
                        <a:pt x="0" y="18000"/>
                      </a:lnTo>
                      <a:arcTo wR="3600" hR="3600" stAng="16200000" swAng="5400000"/>
                      <a:lnTo>
                        <a:pt x="47424" y="21600"/>
                      </a:lnTo>
                      <a:arcTo wR="3600" hR="3600" stAng="10800000" swAng="5400000"/>
                      <a:lnTo>
                        <a:pt x="51024" y="3600"/>
                      </a:lnTo>
                      <a:arcTo wR="3600" hR="3600" stAng="5400000" swAng="5400000"/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reen Hur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1"/>
              <p:cNvGrpSpPr/>
              <p:nvPr/>
            </p:nvGrpSpPr>
            <p:grpSpPr>
              <a:xfrm>
                <a:off x="3505320" y="1905120"/>
                <a:ext cx="2971800" cy="4190760"/>
                <a:chOff x="3505320" y="1905120"/>
                <a:chExt cx="2971800" cy="4190760"/>
              </a:xfrm>
            </p:grpSpPr>
            <p:grpSp>
              <p:nvGrpSpPr>
                <p:cNvPr id="188" name="Group 35"/>
                <p:cNvGrpSpPr/>
                <p:nvPr/>
              </p:nvGrpSpPr>
              <p:grpSpPr>
                <a:xfrm>
                  <a:off x="3505320" y="1905120"/>
                  <a:ext cx="2286000" cy="2081160"/>
                  <a:chOff x="3505320" y="1905120"/>
                  <a:chExt cx="2286000" cy="2081160"/>
                </a:xfrm>
              </p:grpSpPr>
              <p:pic>
                <p:nvPicPr>
                  <p:cNvPr id="189" name="Picture 32" descr="ANd9GcRfzkHqFqZMYqsRUnUxzA2Rui1245C_fVxGnFT4ECcj5ugpFZ_o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28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" name="AutoShape 33"/>
                  <p:cNvSpPr/>
                  <p:nvPr/>
                </p:nvSpPr>
                <p:spPr>
                  <a:xfrm>
                    <a:off x="3657600" y="1905120"/>
                    <a:ext cx="1828800" cy="609480"/>
                  </a:xfrm>
                  <a:custGeom>
                    <a:avLst/>
                    <a:gdLst>
                      <a:gd name="textAreaLeft" fmla="*/ 71640 w 1828800"/>
                      <a:gd name="textAreaRight" fmla="*/ 1757160 w 1828800"/>
                      <a:gd name="textAreaTop" fmla="*/ 71640 h 609480"/>
                      <a:gd name="textAreaBottom" fmla="*/ 537840 h 609480"/>
                    </a:gdLst>
                    <a:ahLst/>
                    <a:rect l="textAreaLeft" t="textAreaTop" r="textAreaRight" b="textAreaBottom"/>
                    <a:pathLst>
                      <a:path w="64787" h="21600">
                        <a:moveTo>
                          <a:pt x="3600" y="0"/>
                        </a:moveTo>
                        <a:arcTo wR="3600" hR="3600" stAng="0" swAng="5400000"/>
                        <a:lnTo>
                          <a:pt x="0" y="18000"/>
                        </a:lnTo>
                        <a:arcTo wR="3600" hR="3600" stAng="16200000" swAng="5400000"/>
                        <a:lnTo>
                          <a:pt x="61187" y="21600"/>
                        </a:lnTo>
                        <a:arcTo wR="3600" hR="3600" stAng="10800000" swAng="5400000"/>
                        <a:lnTo>
                          <a:pt x="64787" y="3600"/>
                        </a:lnTo>
                        <a:arcTo wR="3600" hR="3600" stAng="5400000" swAng="5400000"/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Great Blue Huro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20"/>
                <p:cNvGrpSpPr/>
                <p:nvPr/>
              </p:nvGrpSpPr>
              <p:grpSpPr>
                <a:xfrm>
                  <a:off x="3505320" y="3886200"/>
                  <a:ext cx="2971800" cy="2209680"/>
                  <a:chOff x="3505320" y="3886200"/>
                  <a:chExt cx="2971800" cy="2209680"/>
                </a:xfrm>
              </p:grpSpPr>
              <p:sp>
                <p:nvSpPr>
                  <p:cNvPr id="192" name="AutoShape 18"/>
                  <p:cNvSpPr/>
                  <p:nvPr/>
                </p:nvSpPr>
                <p:spPr>
                  <a:xfrm>
                    <a:off x="5029200" y="5257800"/>
                    <a:ext cx="1447920" cy="838080"/>
                  </a:xfrm>
                  <a:custGeom>
                    <a:avLst/>
                    <a:gdLst>
                      <a:gd name="textAreaLeft" fmla="*/ 98640 w 1447920"/>
                      <a:gd name="textAreaRight" fmla="*/ 1349280 w 1447920"/>
                      <a:gd name="textAreaTop" fmla="*/ 98640 h 838080"/>
                      <a:gd name="textAreaBottom" fmla="*/ 739440 h 838080"/>
                    </a:gdLst>
                    <a:ahLst/>
                    <a:rect l="textAreaLeft" t="textAreaTop" r="textAreaRight" b="textAreaBottom"/>
                    <a:pathLst>
                      <a:path w="37311" h="21600">
                        <a:moveTo>
                          <a:pt x="3600" y="0"/>
                        </a:moveTo>
                        <a:arcTo wR="3600" hR="3600" stAng="0" swAng="5400000"/>
                        <a:lnTo>
                          <a:pt x="0" y="18000"/>
                        </a:lnTo>
                        <a:arcTo wR="3600" hR="3600" stAng="16200000" swAng="5400000"/>
                        <a:lnTo>
                          <a:pt x="33711" y="21600"/>
                        </a:lnTo>
                        <a:arcTo wR="3600" hR="3600" stAng="10800000" swAng="5400000"/>
                        <a:lnTo>
                          <a:pt x="37311" y="3600"/>
                        </a:lnTo>
                        <a:arcTo wR="3600" hR="3600" stAng="5400000" swAng="5400000"/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ullfrog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93" name="Picture 17" descr="ANd9GcQUw55-SlgqhK3p6nTtZ8vnaIuQgTEtwxKk5oBsL-4pgr0ugwPY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3886200"/>
                    <a:ext cx="249552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0" descr="http://t0.gstatic.com/images?q=tbn:ANd9GcQZlr1DZx8eVqqqDO4K_zo-z88HKSIsIDMirI8LxWN0cmggq94OOQ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/>
          <p:cNvSpPr/>
          <p:nvPr/>
        </p:nvSpPr>
        <p:spPr>
          <a:xfrm>
            <a:off x="6324480" y="2590920"/>
            <a:ext cx="2819520" cy="2133360"/>
          </a:xfrm>
          <a:custGeom>
            <a:avLst/>
            <a:gdLst>
              <a:gd name="textAreaLeft" fmla="*/ 0 w 2819520"/>
              <a:gd name="textAreaRight" fmla="*/ 2819880 w 2819520"/>
              <a:gd name="textAreaTop" fmla="*/ 276480 h 2133360"/>
              <a:gd name="textAreaBottom" fmla="*/ 185688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c8c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0" y="2971800"/>
            <a:ext cx="2895480" cy="1600200"/>
          </a:xfrm>
          <a:custGeom>
            <a:avLst/>
            <a:gdLst>
              <a:gd name="textAreaLeft" fmla="*/ 0 w 2895480"/>
              <a:gd name="textAreaRight" fmla="*/ 2895840 w 28954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c8c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254320" y="304920"/>
            <a:ext cx="4495680" cy="1143000"/>
          </a:xfrm>
          <a:custGeom>
            <a:avLst/>
            <a:gdLst>
              <a:gd name="textAreaLeft" fmla="*/ 0 w 4495680"/>
              <a:gd name="textAreaRight" fmla="*/ 4496040 w 449568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c8c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77120" y="2971440"/>
            <a:ext cx="2666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coral reefs are in warm shallow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ral die their skeleton makes a carol ree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oral reefs are to deep they can’t get sun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0" y="32767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re in the Caribbean Sea and Indian Oce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217440" y="304920"/>
            <a:ext cx="1644840" cy="1523880"/>
            <a:chOff x="217440" y="304920"/>
            <a:chExt cx="1644840" cy="1523880"/>
          </a:xfrm>
        </p:grpSpPr>
        <p:pic>
          <p:nvPicPr>
            <p:cNvPr id="202" name="Picture 12" descr="http://t2.gstatic.com/images?q=tbn:ANd9GcQ0nYz8NK2Tbbdw3mvA5hEen1kaYchbyIAQOFu3UR-TFp0mHl-6"/>
            <p:cNvPicPr/>
            <p:nvPr/>
          </p:nvPicPr>
          <p:blipFill>
            <a:blip r:embed="rId2"/>
            <a:stretch/>
          </p:blipFill>
          <p:spPr>
            <a:xfrm>
              <a:off x="228960" y="304920"/>
              <a:ext cx="1633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Wave 1"/>
            <p:cNvSpPr/>
            <p:nvPr/>
          </p:nvSpPr>
          <p:spPr>
            <a:xfrm>
              <a:off x="217440" y="1067040"/>
              <a:ext cx="1295640" cy="76176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3c8c9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wn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"/>
          <p:cNvGrpSpPr/>
          <p:nvPr/>
        </p:nvGrpSpPr>
        <p:grpSpPr>
          <a:xfrm>
            <a:off x="6896160" y="304920"/>
            <a:ext cx="2019240" cy="1844640"/>
            <a:chOff x="6896160" y="304920"/>
            <a:chExt cx="2019240" cy="1844640"/>
          </a:xfrm>
        </p:grpSpPr>
        <p:pic>
          <p:nvPicPr>
            <p:cNvPr id="205" name="Picture 14" descr="http://t2.gstatic.com/images?q=tbn:ANd9GcSftVxsQRSdmQlAC9fBQuHrzoXuorKeT9osjWUFuUN2g1ZukFAYVQ"/>
            <p:cNvPicPr/>
            <p:nvPr/>
          </p:nvPicPr>
          <p:blipFill>
            <a:blip r:embed="rId3"/>
            <a:stretch/>
          </p:blipFill>
          <p:spPr>
            <a:xfrm>
              <a:off x="7315200" y="304920"/>
              <a:ext cx="160020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Wave 3"/>
            <p:cNvSpPr/>
            <p:nvPr/>
          </p:nvSpPr>
          <p:spPr>
            <a:xfrm>
              <a:off x="6896160" y="1311480"/>
              <a:ext cx="1676520" cy="8380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3c8c9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9"/>
          <p:cNvGrpSpPr/>
          <p:nvPr/>
        </p:nvGrpSpPr>
        <p:grpSpPr>
          <a:xfrm>
            <a:off x="228600" y="4686480"/>
            <a:ext cx="2825640" cy="1738080"/>
            <a:chOff x="228600" y="4686480"/>
            <a:chExt cx="2825640" cy="1738080"/>
          </a:xfrm>
        </p:grpSpPr>
        <p:pic>
          <p:nvPicPr>
            <p:cNvPr id="208" name="Picture 16" descr="http://www.lizasreef.com/HOPE%20FOR%20THE%20OCEANS/Images%20HFTO/green_sea_turtle.jpg"/>
            <p:cNvPicPr/>
            <p:nvPr/>
          </p:nvPicPr>
          <p:blipFill>
            <a:blip r:embed="rId4"/>
            <a:stretch/>
          </p:blipFill>
          <p:spPr>
            <a:xfrm>
              <a:off x="228600" y="5129280"/>
              <a:ext cx="16196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Wave 4"/>
            <p:cNvSpPr/>
            <p:nvPr/>
          </p:nvSpPr>
          <p:spPr>
            <a:xfrm>
              <a:off x="1454040" y="4686480"/>
              <a:ext cx="1600200" cy="10904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272520 h 1090440"/>
                <a:gd name="textAreaBottom" fmla="*/ 817920 h 10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3c8c9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a 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1"/>
          <p:cNvGrpSpPr/>
          <p:nvPr/>
        </p:nvGrpSpPr>
        <p:grpSpPr>
          <a:xfrm>
            <a:off x="5873760" y="4572000"/>
            <a:ext cx="3041640" cy="1925640"/>
            <a:chOff x="5873760" y="4572000"/>
            <a:chExt cx="3041640" cy="1925640"/>
          </a:xfrm>
        </p:grpSpPr>
        <p:pic>
          <p:nvPicPr>
            <p:cNvPr id="211" name="Picture 18" descr="http://t2.gstatic.com/images?q=tbn:ANd9GcQGTi23DWX4Ht2PTSD8OL9sNvp3HZ9UH3QKnDvap78wxcSWwx2q_A"/>
            <p:cNvPicPr/>
            <p:nvPr/>
          </p:nvPicPr>
          <p:blipFill>
            <a:blip r:embed="rId5"/>
            <a:stretch/>
          </p:blipFill>
          <p:spPr>
            <a:xfrm>
              <a:off x="7036920" y="5248440"/>
              <a:ext cx="18784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Wave 10"/>
            <p:cNvSpPr/>
            <p:nvPr/>
          </p:nvSpPr>
          <p:spPr>
            <a:xfrm>
              <a:off x="5873760" y="4572000"/>
              <a:ext cx="1752480" cy="9144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228600 h 914400"/>
                <a:gd name="textAreaBottom" fmla="*/ 6858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3c8c9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lvertip 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17:59Z</dcterms:created>
  <dc:creator>mc3338</dc:creator>
  <dc:description/>
  <dc:language>en-US</dc:language>
  <cp:lastModifiedBy>mc3338</cp:lastModifiedBy>
  <dcterms:modified xsi:type="dcterms:W3CDTF">2012-11-12T19:16:20Z</dcterms:modified>
  <cp:revision>15</cp:revision>
  <dc:subject/>
  <dc:title>Water and Land Biomes</dc:title>
</cp:coreProperties>
</file>